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media/image10.jpeg" ContentType="image/jpeg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464-30B7-4906-B68E-3AC0824D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D54-7066-418A-85AD-C71DF0F3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2AF-C522-4D3C-A1B6-B282DFA9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380-CE10-4944-89A0-7800B43C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F0E-2F40-42CD-A5AF-A5196BB7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B58-AE90-4713-AE41-43F28B3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352-FCFD-47F6-8599-13B9D097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0BF-C7D1-42A0-A8DD-766C684A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9CF-0016-4A8F-ACC7-349C622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F9F-BA1B-4086-959B-9526EE2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997-6E81-447D-8782-E2D14D11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C51-D658-4BC0-AA38-0FFCC82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9A1-5995-4E28-987D-2A296C5CD29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1B7-312A-451C-A3DC-4AB74F81B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有一位朋友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581280" y="1938240"/>
            <a:ext cx="3117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SimSun"/>
              </a:rPr>
              <a:t>我四十八岁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3006720" y="1961640"/>
            <a:ext cx="3619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比他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SimSun"/>
              </a:rPr>
              <a:t>      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SimSun"/>
              </a:rPr>
              <a:t>48 &gt; 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明白了土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5715000" y="1600200"/>
            <a:ext cx="300816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Documents and Settings\lsabey\Local Settings\Temporary Internet Files\Content.IE5\NFJFH6QS\MPj04364350000[1].jpg"/>
          <p:cNvPicPr/>
          <p:nvPr/>
        </p:nvPicPr>
        <p:blipFill>
          <a:blip r:embed="rId2"/>
          <a:stretch/>
        </p:blipFill>
        <p:spPr>
          <a:xfrm>
            <a:off x="609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也明白了天上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C:\Documents and Settings\lsabey\Local Settings\Temporary Internet Files\Content.IE5\YSZGR4KJ\MPj04327050000[1]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不是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lsabey\Local Settings\Temporary Internet Files\Content.IE5\NFJFH6QS\MCj04039410000[1].wmf"/>
          <p:cNvPicPr/>
          <p:nvPr/>
        </p:nvPicPr>
        <p:blipFill>
          <a:blip r:embed="rId1"/>
          <a:stretch/>
        </p:blipFill>
        <p:spPr>
          <a:xfrm>
            <a:off x="3200400" y="1500120"/>
            <a:ext cx="28195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不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Documents and Settings\lsabey\Local Settings\Temporary Internet Files\Content.IE5\YSZGR4KJ\MCj02420010000[1].wmf"/>
          <p:cNvPicPr/>
          <p:nvPr/>
        </p:nvPicPr>
        <p:blipFill>
          <a:blip r:embed="rId1"/>
          <a:stretch/>
        </p:blipFill>
        <p:spPr>
          <a:xfrm>
            <a:off x="2895480" y="1905120"/>
            <a:ext cx="3311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的朋友不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son'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朋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Documents and Settings\lsabey\Local Settings\Temporary Internet Files\Content.IE5\YSZGR4KJ\MCBS01884_0000[1].wmf"/>
          <p:cNvPicPr/>
          <p:nvPr/>
        </p:nvPicPr>
        <p:blipFill>
          <a:blip r:embed="rId1"/>
          <a:stretch/>
        </p:blipFill>
        <p:spPr>
          <a:xfrm>
            <a:off x="3048120" y="2362320"/>
            <a:ext cx="36288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我的朋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2762280" y="1599840"/>
            <a:ext cx="361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大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 Anders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Rectangular Callout 5"/>
          <p:cNvSpPr/>
          <p:nvPr/>
        </p:nvSpPr>
        <p:spPr>
          <a:xfrm rot="14722200">
            <a:off x="2722320" y="2816280"/>
            <a:ext cx="1326960" cy="2146320"/>
          </a:xfrm>
          <a:prstGeom prst="wedgeRectCallout">
            <a:avLst>
              <a:gd name="adj1" fmla="val -13083"/>
              <a:gd name="adj2" fmla="val 632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 rot="14869800">
            <a:off x="2878200" y="2697840"/>
            <a:ext cx="7290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ello, My name is Tim An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在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他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2841120" y="1572840"/>
            <a:ext cx="3849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的朋友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住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在山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1828800" y="2058840"/>
            <a:ext cx="5715000" cy="380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lsabey\Local Settings\Temporary Internet Files\Content.IE5\Q1HN1WZ2\MCj04414430000[1].png"/>
          <p:cNvPicPr/>
          <p:nvPr/>
        </p:nvPicPr>
        <p:blipFill>
          <a:blip r:embed="rId2"/>
          <a:stretch/>
        </p:blipFill>
        <p:spPr>
          <a:xfrm>
            <a:off x="365760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一位文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lsabey\Local Settings\Temporary Internet Files\Content.IE5\NFJFH6QS\MCj02864560000[1].wmf"/>
          <p:cNvPicPr/>
          <p:nvPr/>
        </p:nvPicPr>
        <p:blipFill>
          <a:blip r:embed="rId1"/>
          <a:stretch/>
        </p:blipFill>
        <p:spPr>
          <a:xfrm>
            <a:off x="3887640" y="2560680"/>
            <a:ext cx="1368720" cy="173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lsabey\Local Settings\Temporary Internet Files\Content.IE5\NFJFH6QS\MCj02864560000[1].wmf"/>
          <p:cNvPicPr/>
          <p:nvPr/>
        </p:nvPicPr>
        <p:blipFill>
          <a:blip r:embed="rId2"/>
          <a:stretch/>
        </p:blipFill>
        <p:spPr>
          <a:xfrm>
            <a:off x="3887640" y="2560680"/>
            <a:ext cx="1368720" cy="173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lsabey\Local Settings\Temporary Internet Files\Content.IE5\NFJFH6QS\MCj02864560000[1].wmf"/>
          <p:cNvPicPr/>
          <p:nvPr/>
        </p:nvPicPr>
        <p:blipFill>
          <a:blip r:embed="rId3"/>
          <a:stretch/>
        </p:blipFill>
        <p:spPr>
          <a:xfrm>
            <a:off x="2971800" y="1981080"/>
            <a:ext cx="3119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他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SimSun"/>
              </a:rPr>
              <a:t>喜欢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山下的土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山下的土地是文人的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ǎo  fo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2249640" y="2362320"/>
            <a:ext cx="5370480" cy="357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lsabey\Local Settings\Temporary Internet Files\Content.IE5\NFJFH6QS\MCj04160140000[1].wmf"/>
          <p:cNvPicPr/>
          <p:nvPr/>
        </p:nvPicPr>
        <p:blipFill>
          <a:blip r:embed="rId2"/>
          <a:stretch/>
        </p:blipFill>
        <p:spPr>
          <a:xfrm rot="4542000">
            <a:off x="1394640" y="4835160"/>
            <a:ext cx="18543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山下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天空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ānkōng the heavens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是文人的眼睛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ey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lsabey\Local Settings\Temporary Internet Files\Content.IE5\YSZGR4KJ\MPj04328900000[1].jpg"/>
          <p:cNvPicPr/>
          <p:nvPr/>
        </p:nvPicPr>
        <p:blipFill>
          <a:blip r:embed="rId1"/>
          <a:stretch/>
        </p:blipFill>
        <p:spPr>
          <a:xfrm>
            <a:off x="1295280" y="205740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lsabey\Local Settings\Temporary Internet Files\Content.IE5\YSZGR4KJ\MPj04328430000[1].jpg"/>
          <p:cNvPicPr/>
          <p:nvPr/>
        </p:nvPicPr>
        <p:blipFill>
          <a:blip r:embed="rId2"/>
          <a:stretch/>
        </p:blipFill>
        <p:spPr>
          <a:xfrm>
            <a:off x="1295280" y="2057400"/>
            <a:ext cx="1295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大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他三十九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8400" spc="-1" strike="noStrike">
                <a:solidFill>
                  <a:srgbClr val="ff0000"/>
                </a:solidFill>
                <a:latin typeface="Calibri"/>
              </a:rPr>
              <a:t>39</a:t>
            </a: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4:49Z</dcterms:created>
  <dc:creator>itsuser</dc:creator>
  <dc:description/>
  <dc:language>en-US</dc:language>
  <cp:lastModifiedBy>itsuser</cp:lastModifiedBy>
  <dcterms:modified xsi:type="dcterms:W3CDTF">2009-05-20T14:35:56Z</dcterms:modified>
  <cp:revision>11</cp:revision>
  <dc:subject/>
  <dc:title>  我有一位朋友。         </dc:title>
</cp:coreProperties>
</file>